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ACA4-6C1C-4170-A67D-A1BD897F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3CD1-08ED-42F8-A8F2-1ABBA002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BC9E-0A0A-4476-8D96-25A97A28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0005-D519-496B-87D2-5BBDE52B8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8058-0A10-4FAB-ACEF-7A04E74A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5EE5-E2C5-4C0D-BB98-14787F9D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AA44-F66A-4419-AF2A-772D2E49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9346-34D2-4802-8A8C-76E2CCD3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FB32-F394-4F80-884C-D9973C2B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2480-6A74-406B-BE31-B6327834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6466-93FA-4C91-84E1-2352E402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ECF5-E139-4278-B542-847E3A83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17ED-19FB-4324-8B8B-75BC2EF18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usetute.com.au/lewisstr.html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youtube.com/watch?v=ioj8BX9dlz0" TargetMode="External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yjge1WdCFPs&amp;feature=PlayList&amp;p=A5B4A01AA0EC345E&amp;playnext=1&amp;playnext_from=PL&amp;index=1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4-1 da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le Electron configur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8288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n atom always wants to be stable (meaning no reactions) an atom is stable if the highest occupied energy level is full (can’t hold anymore e-’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9718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table atoms are not likely to re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3429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8 electrons in outer shell = st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38098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1 exception = He has 2 e-’s to be 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44197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e use a model to show the valence electrons (outer shell electrons) called the electron dot diagram (Lewis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ee page 159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draw on bo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untitled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7848720" cy="1676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520" y="2666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valence electrons (outer shell)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hown by dot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  Group A elements all have the number of electrons as the group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8862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VALENCE  electrons are the reason for the chemical properties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nic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3716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Reactions take place between elements who are not stable (unfilled outer shel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20574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lement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ility, therefore there is bo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3623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Bonding is transferring electrons between elements to get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30481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electrons are transferred, the # of e- and p+ are now differ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aning atom is no longer neut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38862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because the atom is no longer netural, they have an electrical charge (+ or 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ny atom that has a + or – charge we call an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y a char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941013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2703240" cy="2787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57600" y="1143000"/>
            <a:ext cx="50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 first atom (lithium)needs to lose 1 to be stable.  The second atom (chlorine) needs to gain 1 to be s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2209680"/>
            <a:ext cx="518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o, lithium has lost a e-, so it becomes positive.  Chlorine has gained a e-, so it becomes neg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3048120"/>
            <a:ext cx="52578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thium = 3 protons, 2 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hlorine = 17 protons, 18 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1911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an element gives away all of its valence electrons so its outer shell is empty, it disappears and we now have a new outer shell which is 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onic bond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kes place between metals and non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03:04:09Z</dcterms:created>
  <dc:creator>jpak</dc:creator>
  <dc:description/>
  <dc:language>en-US</dc:language>
  <cp:lastModifiedBy>User</cp:lastModifiedBy>
  <dcterms:modified xsi:type="dcterms:W3CDTF">2010-10-27T14:20:17Z</dcterms:modified>
  <cp:revision>11</cp:revision>
  <dc:subject/>
  <dc:title>Note guide 4-1 day 1</dc:title>
</cp:coreProperties>
</file>